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A3D-1C28-4BFE-8947-5AB25CA8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058-4896-4D34-A18D-E58A57B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4E63A-53AE-49B8-B283-F390E605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DF19-FF8E-4F8B-99ED-D8363E8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20B2-7E9F-4A99-A046-D44896CE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05F6-E189-4756-BA88-94E72CB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804B4-379B-44D7-AF73-8463009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4FCC-55BB-46A3-B0D9-79F05EC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413A-2929-409C-8057-979B03D9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0507D-9564-4F6E-B4FC-412A2A48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BFE4E-E2A8-454B-8051-5EB957EB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5416E-7AFB-4E0F-BF64-08B25D12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D2C-CF41-43AC-B4A0-E9DC533F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03560-470A-41E7-8E75-BAB6C801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85FA2-62A5-4325-897D-8322D839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A59AE-1767-405B-B245-35EE159D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B369-77A3-4F99-AC63-319DC6CC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DB797-BD68-4565-9572-C5C6ACC6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30681-3A9B-48B5-8D5A-2A55FE0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B9FA-6847-45AA-98C4-C0FED05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57BDF-4B5A-4E2D-B7AB-E6DF104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97C7-1BDD-4C38-A797-792D2B7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D6254-B223-4CEA-80A0-19915234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923-52A4-4AA5-84E5-D1589002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43BAB-7ECC-484B-909F-EB1F8839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0B6A-CE83-4567-A5FD-6E4A9268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19B9-1993-4E4A-980A-BA598E06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9F289-4F9E-4BD3-86CB-8C2E3CD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4A121-484C-422D-86A0-A38E72D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01739-AA1B-4F1D-98CD-96FE99F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93B3-E46C-4819-A168-B5D47459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A1917-2E00-4F6E-979E-F4F1294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B6A4-F332-470A-805C-1F866A9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9ECC-C20B-4967-9432-35BA3FA4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0822-B8EF-459B-95A4-42CF40E8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673B9-8F1C-4460-A71A-FC9B27D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0C6A3-0916-4DCC-B97B-699735D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AAA19-8B4A-4B3B-B481-5A30BA55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144B0-1414-4515-BC7B-071E529B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18A21-5F25-4EEE-A044-A715D10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275C7-8E80-436E-84EE-3D68B329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961D9-CAE8-4E5D-BBCB-02B7115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BEAD-DBF5-4F6C-963B-1555311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80DA4-6FF9-4DE8-BEB9-49F6FCA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3A009-F3CD-4BDD-B78A-E9F4E90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33BF-4F69-4922-AE2D-8B74BBF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EF70F-CE12-4645-BD32-A94B3B3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C9E48-8D65-4832-865C-D582550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7EEF2-0FC7-4056-9917-2E8B7B0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740A7-F8F3-4BA0-A633-9E7A0EC2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8928-EA3E-46DD-A346-899AA1EB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FDA21-009C-4EE9-A8D5-7872FAF5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C973A-EA1C-49D2-A883-694F9E0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3A94-2C79-4B47-8125-23E0536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1E0F0-1A00-405B-9D57-B8E685A3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30097-C79F-4B79-A88E-FA8D21CA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36D6-50E0-4C9A-B76B-956A9F1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64C5-0F1E-47ED-B266-57445E8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C376A-8BCF-4E0E-BB36-8770FA01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934D1-A3E9-4B07-9282-67F4130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C3DC7-416E-4754-B307-781BF9A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F8C6E-DA31-47B3-8507-C084092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B0779-27A9-4706-9956-A5C4AF9C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31C3B-7629-43B8-BFBB-2A917EF3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D36DB-7438-4470-998F-0D3EC160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2DD90-B281-444E-9DF4-C4D59E6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43ADE-70CF-479D-B838-D73B0F8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788-B3C6-4FE8-BD5F-2E28C1B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10A6E-3AB6-41C5-A301-C478D30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7B16A-5824-44CC-A926-2DB50DA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3DF76-38FD-4485-A3AF-AC3389B4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98116-5377-4DDF-938A-A1879D2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471E5-F6FD-439C-8860-6E796C5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2A98E-3CCA-417B-9EB0-213AE64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01836-E949-4C75-8333-BB74C13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D43C2-6866-4478-B7E0-C8AF1685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9ABBA-9CD8-45C4-B6C1-60EE120F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26DDD-20EE-46A2-8358-6D4B9A3B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7674-BCE2-46A2-9173-BED7641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45926-28E0-4406-83E2-F3E43EF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F3A06-FCFF-475B-801E-A0E7B18C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CF23E-5C60-45A4-BFE9-CD1688A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06EB7-1887-4017-9BBB-265AE7A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DA1AE-742D-4322-A8A8-C32A15B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AA641-3995-4C47-B9DE-FEB6F57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5B0A0-FECF-4846-AF3D-914D3F7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84D29-93DF-4A5F-BD38-67DF9B2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5FE26-6F8E-4775-97DE-1A4E8C7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382B8-949D-4B81-B3EE-7FFE012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598-78AB-499D-B3F3-62BC46D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A7926-C8EB-486F-9CE3-94B53D33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4CC9C-51D1-41AE-B66A-40761B80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C9B77-1449-4189-92F2-BF93742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3B74E-2733-48AE-AB97-FE68F49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44AE4-36B6-42CF-A4F1-8A6BA38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F89BF-E770-450D-852B-F912568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0EBA3-7862-41C3-99D1-36D01C57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523B9-A8A4-4B6B-A7D2-50365FC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B6BDF-8EE0-4369-BCDF-8BE3346E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18FA7-7F6B-4D27-A10F-9ED99E4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31B-EFAC-4DF3-9CFB-9DC00303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F32D7-C092-4963-8DCD-AA42BC4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A762A-6082-4259-8739-18300B48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7E3DC-F8AF-44D2-9E85-45D7AF45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2BA3A-BB2C-4E22-BF1D-2937E195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B2B5F-E699-4EFC-B922-E9936C46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B6C1A-F572-4EE4-8CB1-DB394A6A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37EE6-B485-4424-9EA9-6EE65CD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E7CF5-5319-4CF2-A4F3-28111385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9599B-AA10-4196-964D-19E68FB7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EE060-503F-4628-B39C-D5112B5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5F0-31C8-49D7-B201-119E079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B6C-D47F-41EB-8D40-192A7DC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7FE6D-25AD-4657-A52E-99C905F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2879D-28A6-48CF-A45A-FE99F47B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D180C-4B7E-4B9A-8AE2-8B3B38E8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44013-4C0E-4A98-80EB-A038673E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B0E28-4801-4650-9E86-028C4DDF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79441-5533-4C58-B7E8-5547A874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93ACD-999E-4568-99C0-B0E9031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5E903-A309-4B84-8905-EDA2FDA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6AE7A-0A20-4592-9A38-FC963705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AA595-9EC4-46F5-BB94-E3B319D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1EC5-1B3F-459F-B62A-56B3A3C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8330E-E0F4-4CE6-862D-0C0755E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F0AAF-0718-4FEF-9074-A2EA3E1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35177-B8F7-489D-9720-2BFE732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0F420-907C-4A19-8E22-002E3A0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4C346-E1A9-44DE-9E7B-4AD9419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7B0FD-B117-48A6-B9BA-621071ED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C80FF-DA27-4640-83F9-5CFAF72C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B3DCE-7D4F-46E1-AFE1-75943C0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E388D-05B3-43DB-B8A1-E54E946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1FEBD-6ABB-4BE5-99E6-B5AEDE39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DF94-7CC8-4378-B344-8BDE9FC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BFE68-CC76-44B4-8333-F2E2410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C2AF4-9ED3-4218-81C6-0BFA403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51946-EF42-4A5E-A2B7-0487FC2A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7A4DC-6004-4643-B1CF-F682338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BBED9-2293-463B-9AED-8E6132B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2B083-278E-4BBF-A648-3AA8EC3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C4B92-FDFE-41D7-982D-D128558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99752-2915-475D-A1CD-FFA3BB3E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3F37A-C292-4A75-9EB8-235F3A24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9AD39-9BDF-450B-A6AA-33471559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DBB-A07E-4EBC-A71E-47B3B854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E614E-809E-4B7B-BF48-F6183B3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883F7-FB2F-4D96-97B1-E0CDCA3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D3B34-C59C-43AF-ACD7-E2304BE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978C0-D2C2-44BD-902D-470E2DC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1507D-08E7-4008-BC49-E571F11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362B2-F4BF-40AB-B2E8-2691A57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08A66-A43E-414D-9835-4CADA33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D7B7E-F0FB-4030-9BBF-9943835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D7283-AA34-4DDD-999F-086DF8E0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E4524-98F6-44C3-92BC-3E2B993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F480-4E4F-4321-BE00-FD17857B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BF22A-92B5-4975-A535-44883855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FAC49-560C-41D4-B502-3589218A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EA725-6D03-4443-B975-716B89A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51C9CE-E0F3-4194-B648-BCFC9DD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74DCD-F260-41AA-99B5-C06E6BE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3A264-625A-4072-B264-F5C9D7B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96097-1D46-4C19-B79D-C2DE8179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A38D0-4124-4A43-9906-E8F2C73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0A769-5409-4FF6-B68B-1974E9C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DECE1-053F-4DB6-BD43-EB4C018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C4EC-9072-45FE-A379-4BBA6688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394DF-C4BC-4E3E-B401-F0346E0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74CA4-9C39-4F58-8419-C5122535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334BD-04AB-45BE-A813-3F4BE499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CF21-A3B5-4C2A-A437-54CE124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9367-672D-4B20-B02D-70A1AAD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A7BA-FB8A-4220-AB74-F6BA3CC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8D09-34D3-4EAC-96FD-2CF5CB7A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BF1-02F7-4E56-8CBF-8D140597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7705-98A0-4DD1-9BFF-117987E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63E5-EC27-4425-8E97-19EC03B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DAB4-9608-4287-9B1E-70F1EF4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6535-8B85-4DEC-89D4-C635E1C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C5FE-6D60-4562-80F7-039D3534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E017-4277-44E5-B2CD-E19DAD83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7AE4-523D-44B3-A1A4-6F267AD7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0BAF-E594-475B-9928-EF1339A3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0981-C056-407F-9D97-AA81554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BB70-66B0-4616-8CB4-7FCF9634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D77-C484-4317-8B93-83A643A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8AC2-ED4B-4726-8447-439E11B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AA01-AE11-43E2-85D9-649B754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D898-EB5F-45C5-9D2A-CD5B4B1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9310-F47A-46D7-A404-257F5376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603A-AC95-41D4-A31A-710D1E4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65C0-64D7-4974-BF2F-2DC2DFC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C324-EC7B-4CA9-AB07-88A9A35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EAD5-0CD3-4474-AB1F-53A9F70B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A9EB-F9EF-422B-B10B-BDC3AD2D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E240-A1CE-433B-AC24-F5F064C5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F18-2CFB-46DD-BD02-704F9E4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D4BB-05A1-45B3-8310-66043B7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C034-5458-4E03-A493-C04FA52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243A-E566-4744-93D0-1106F5F5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711D-70FB-440A-BAA3-66D05AD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E7CA-6569-42CA-A83D-C645DCF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4742-EF52-4436-9C5B-BDF778F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77EB-1701-497C-9A9C-FF6DC018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57E9-C615-44EE-AB57-F145283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4954-5E33-4172-A93C-044FDFD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509C-7A27-49BA-B030-EBBBBABA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DE1-63A5-4299-9173-11DA248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6C79-81E2-4D4E-B760-69850E9E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8029-E3B8-44B6-BCA0-0603E1F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A3F1-BC69-40CE-A47F-A34399D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E5A3-0458-4A14-BF45-A68D6EBA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1921-8FC0-47FE-BE58-55C9FC1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2FC7-509A-442F-83CC-9F0B329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E165-8FB4-436D-8D75-D7CEC61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3476-8BFB-44A7-9109-76FD361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9027-A674-4ECE-A739-B216681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6DC5-32A8-4C59-A424-270A021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33A-498F-45F4-9912-AB5CE04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DB93-3DA6-4DB0-9F7B-9CCB652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B24E-C8DA-4A84-B101-15ED40AC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E9490-0FD9-4C22-BE5D-3950CF1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E264-E44D-41B3-A23C-828F6FFF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ED20-D8DC-4A0D-86E0-C88B4DF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6961-9459-41F6-B9EF-ACCA82EF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EEBC1-252C-4553-A22F-A4C7BB4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CFB0E-D041-4608-A30F-B967B5B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D4226-9E6A-4B98-AF72-3B554ED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4E4E-0544-464B-B35F-60543CE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469-A008-4516-BE01-E818D8A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F6E2-36B9-47E1-8A46-8956F3C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6427-4215-4A13-BDA7-C11E140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B6E7-360C-4C11-A550-E6EE3312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1FB6-CF5D-4F09-9087-107C2334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F5083-23CB-4698-961A-79B207AA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16D1-AE05-462F-B371-7CFBE0AE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0D84-2566-4BDD-9B5C-CB829E6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F8766-FA3E-42A3-BBD1-9480E947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82DA9-2C0B-4818-BA73-595C2268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7FF5-8BEC-4478-B1C1-C63BDFE7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6D6-5FD8-40D4-9F62-CA8A510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7668-170F-46FC-BEDA-40264D5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E513-BFB4-4020-B781-F58C989A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79858-710B-4AD2-B9F4-F353F10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1E0CA-4894-45C2-9919-35C9917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6960-B9BF-4D4E-8A82-5919F54C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E531-61B3-46DB-88DD-8BD34297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5D5EE-49F0-4318-A576-5670070F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56976-CF5F-4134-9845-3993AB18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1452-1798-4AE3-BC68-B82C6C5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CEF3-52F0-4418-8E99-CADD598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560F-DD7D-4B6C-8928-59EE7A61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0D4C-D08F-41E2-A3BA-37246F748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703-31FD-4C45-B3E2-5DF9309FF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6D8-1FD1-4E10-BE32-09BA5D891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9A2-3536-46D0-874C-9704C349E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DFB-5D71-4201-8A87-820938832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D3D-E99A-419B-AE85-A9A5D2047A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225-D3DF-4DFD-8D0A-4C57B7209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8889-DC4D-41C3-98A6-498177022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D26-7777-4943-83ED-C15F831F7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BED-BCA3-400C-AFED-6B6D6003B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E5FF-3ADE-45AC-9094-79CC25BE3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CC1-E23E-4893-9866-9A2AA7D12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F35-5032-41C6-B7AB-AC74A17B3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42E-8817-45AD-89EA-8A3EE6B97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1BE6-3CF6-4287-8D44-063F37999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99E-76B1-4F57-BA38-5B49DAD56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D40-7DC6-47B5-90F0-02C45F48D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E971-8FB1-4A0A-88BD-43C8E5098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E83-558E-429F-B0B4-2C51BEE55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6FD-CFD3-42C7-B5D8-3EF4FFB50F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F4D8-A4B9-444F-AB67-9CBB79D52F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344-D3F7-4DC1-85CD-F79B738001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6BF-8FB6-49B0-A4A4-F16E42DC9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8E1-A11F-4CC4-8017-9778A503A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330-EE1B-4552-81AE-8B29203D0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B8C-9B03-4D02-95A4-B1A1D5B77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FF3-44AD-438C-90F5-AEEB9E69C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A8D-A918-4AF0-9CE9-FF87705F3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6EF3-D9D5-4CB0-8F7A-50D820F4C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6167-99DE-48A9-A000-B0AE77874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0A74-D2B5-40DA-96E0-FD5F9FC0F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657-9697-407E-BBAA-B4B5FCDEA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9D0-1A85-43C0-9B0A-A2810EEAD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0FC-F5C8-4841-948C-63CD58495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BE0-F0E3-454A-9342-D571BC225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50A4-4B01-4EE0-9F7E-D1A747356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434-C50D-4607-83F2-3598FAA50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5DE-635E-4502-B110-1EAF10C09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C501-1C7E-4B24-8AF8-821CCA491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33560" y="3119400"/>
            <a:ext cx="347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325000" cy="59914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 flipV="1">
            <a:off x="4214880" y="2643120"/>
            <a:ext cx="714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 flipV="1">
            <a:off x="5715000" y="2643120"/>
            <a:ext cx="714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 flipV="1">
            <a:off x="7000920" y="2642400"/>
            <a:ext cx="135720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 flipV="1">
            <a:off x="3311640" y="4025880"/>
            <a:ext cx="714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 flipV="1">
            <a:off x="4643280" y="3999960"/>
            <a:ext cx="1000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 flipV="1">
            <a:off x="6215040" y="4000680"/>
            <a:ext cx="214308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 flipV="1">
            <a:off x="4071960" y="4500000"/>
            <a:ext cx="7142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 flipV="1">
            <a:off x="5429160" y="4500000"/>
            <a:ext cx="128592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 flipV="1">
            <a:off x="3357720" y="535788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 flipV="1">
            <a:off x="4572000" y="535788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 flipV="1">
            <a:off x="1214280" y="6289560"/>
            <a:ext cx="1785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3"/>
          <p:cNvSpPr/>
          <p:nvPr/>
        </p:nvSpPr>
        <p:spPr>
          <a:xfrm flipV="1">
            <a:off x="3429000" y="6300720"/>
            <a:ext cx="714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04640" y="1585800"/>
            <a:ext cx="8334720" cy="36864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 flipV="1">
            <a:off x="1214280" y="2570760"/>
            <a:ext cx="742968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 flipV="1">
            <a:off x="857160" y="3071880"/>
            <a:ext cx="3429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 flipV="1">
            <a:off x="1285920" y="3927960"/>
            <a:ext cx="607212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"/>
          <p:cNvSpPr/>
          <p:nvPr/>
        </p:nvSpPr>
        <p:spPr>
          <a:xfrm flipV="1">
            <a:off x="1263600" y="4827960"/>
            <a:ext cx="607212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00040" y="752400"/>
            <a:ext cx="82868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96200" cy="2790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500040" y="3786120"/>
            <a:ext cx="8296200" cy="2752920"/>
          </a:xfrm>
          <a:prstGeom prst="rect">
            <a:avLst/>
          </a:prstGeom>
          <a:ln w="0">
            <a:noFill/>
          </a:ln>
        </p:spPr>
      </p:pic>
      <p:sp>
        <p:nvSpPr>
          <p:cNvPr id="1044" name="矩形 3"/>
          <p:cNvSpPr/>
          <p:nvPr/>
        </p:nvSpPr>
        <p:spPr>
          <a:xfrm flipV="1">
            <a:off x="1177920" y="2475000"/>
            <a:ext cx="1071720" cy="333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 flipV="1">
            <a:off x="2786040" y="2928600"/>
            <a:ext cx="307188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"/>
          <p:cNvSpPr/>
          <p:nvPr/>
        </p:nvSpPr>
        <p:spPr>
          <a:xfrm flipV="1">
            <a:off x="2571840" y="3357720"/>
            <a:ext cx="242892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6"/>
          <p:cNvSpPr/>
          <p:nvPr/>
        </p:nvSpPr>
        <p:spPr>
          <a:xfrm flipV="1">
            <a:off x="2914560" y="3843360"/>
            <a:ext cx="16574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"/>
          <p:cNvSpPr/>
          <p:nvPr/>
        </p:nvSpPr>
        <p:spPr>
          <a:xfrm flipV="1">
            <a:off x="2071800" y="4285440"/>
            <a:ext cx="40719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"/>
          <p:cNvSpPr/>
          <p:nvPr/>
        </p:nvSpPr>
        <p:spPr>
          <a:xfrm flipV="1">
            <a:off x="4546440" y="4750560"/>
            <a:ext cx="78588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9"/>
          <p:cNvSpPr/>
          <p:nvPr/>
        </p:nvSpPr>
        <p:spPr>
          <a:xfrm flipV="1">
            <a:off x="4429080" y="5214960"/>
            <a:ext cx="428616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0"/>
          <p:cNvSpPr/>
          <p:nvPr/>
        </p:nvSpPr>
        <p:spPr>
          <a:xfrm flipV="1">
            <a:off x="357120" y="5643720"/>
            <a:ext cx="107172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82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452520" y="1343160"/>
            <a:ext cx="82389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85640" y="1886040"/>
            <a:ext cx="8172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00040" y="809640"/>
            <a:ext cx="8248680" cy="604836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 flipV="1">
            <a:off x="857160" y="128484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 flipV="1">
            <a:off x="611280" y="174996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 flipV="1">
            <a:off x="571680" y="221364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 flipV="1">
            <a:off x="631800" y="267372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 flipV="1">
            <a:off x="622440" y="3134160"/>
            <a:ext cx="8001000" cy="358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 flipV="1">
            <a:off x="677880" y="359604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 flipV="1">
            <a:off x="577800" y="401364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 flipV="1">
            <a:off x="642960" y="449964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"/>
          <p:cNvSpPr/>
          <p:nvPr/>
        </p:nvSpPr>
        <p:spPr>
          <a:xfrm flipV="1">
            <a:off x="368280" y="4962960"/>
            <a:ext cx="7000920" cy="358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1"/>
          <p:cNvSpPr/>
          <p:nvPr/>
        </p:nvSpPr>
        <p:spPr>
          <a:xfrm flipV="1">
            <a:off x="642960" y="5428080"/>
            <a:ext cx="80010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2"/>
          <p:cNvSpPr/>
          <p:nvPr/>
        </p:nvSpPr>
        <p:spPr>
          <a:xfrm flipV="1">
            <a:off x="654120" y="5868720"/>
            <a:ext cx="800100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3"/>
          <p:cNvSpPr/>
          <p:nvPr/>
        </p:nvSpPr>
        <p:spPr>
          <a:xfrm flipV="1">
            <a:off x="542880" y="6334920"/>
            <a:ext cx="4429080" cy="358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1:4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